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20.gif" ContentType="image/gif"/>
  <Override PartName="/ppt/media/image12.png" ContentType="image/png"/>
  <Override PartName="/ppt/media/image10.jpeg" ContentType="image/jpeg"/>
  <Override PartName="/ppt/media/image5.png" ContentType="image/png"/>
  <Override PartName="/ppt/media/image9.png" ContentType="image/png"/>
  <Override PartName="/ppt/media/image8.wmf" ContentType="image/x-wmf"/>
  <Override PartName="/ppt/media/image11.png" ContentType="image/png"/>
  <Override PartName="/ppt/media/image21.png" ContentType="image/png"/>
  <Override PartName="/ppt/media/image19.png" ContentType="image/png"/>
  <Override PartName="/ppt/media/image16.png" ContentType="image/png"/>
  <Override PartName="/ppt/media/image15.png" ContentType="image/png"/>
  <Override PartName="/ppt/media/image14.jpeg" ContentType="image/jpeg"/>
  <Override PartName="/ppt/media/image1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1AF0E-2599-4011-805D-BD36A1872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BEFE0-216C-40E3-A52F-7E0AD64B5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7AB80-2A58-459B-AAD2-8F9EE7B5D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80579-BF76-4F5F-9297-E1444C8CD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7718F-34AC-4ECA-87C4-D4FDF8B29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A743B-0FFC-46E0-868A-F8A2DE6B6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1714F-BCD2-4311-A6B5-A5CB3FD57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6BB8F-C49E-4CB6-A42D-5C43B9E04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0641F-889E-48AE-8ED2-5BBB9DED2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6BCFD-27BE-43CE-AE72-728542F6F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A7294-593F-4936-BC87-093252C47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30275-2DA6-43F5-976B-F2DB031E0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44AE6-4BDE-4A45-8B31-CED94441F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3EF30-1038-45E2-9F55-2358ECB36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3EE47-A59F-4DFE-A81F-F3E6DB03D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67CF9-B818-4E66-A425-8776FDA98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CC8DF-D07F-4C0A-8E99-453D21B6BF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F33068-138E-42CB-9CA9-0776C559F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6CA032-90E9-4CB9-A737-E047A92AF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734A6A-6125-4E21-B74B-58A1ED3A5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7C531A-2F7E-4BE9-846C-B3B0DD2AA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E682D9-FBFA-4377-B0E9-CA5D313F4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F66B5-7C48-448C-B146-7499377EB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A86D62-4428-4610-8BAA-2A2DB33EF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C4409D-D529-427B-9257-74D6D3AA8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765994-6BD4-42AE-BA38-FB600E180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57BC38-557B-42A1-84E6-4C8AAB161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C3B7AA-5F14-4F3D-90D9-CA49C33AE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C2309C-8ADE-46F7-B6B8-B70DBAC17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38C295-C14F-4D01-A2E3-3BD9E907D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EE5C34-63FD-4592-B6F1-BDEEA2A1F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CA9477-6584-4E01-BFA0-379BAC7F0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6AF974-DBEA-4D00-BFAD-E8D1DB608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C1511-984B-44B5-B90F-92776A52C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6DA2ED-14A4-4907-B627-B4A18C59A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7C36AB-CD97-4AD5-B164-8014601D0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3A79FF-C518-45D5-AC44-C2740ADFE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62A8F6-7076-44A6-AFA5-75E228AB3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E0596F-3861-4BFE-BE9C-B0D0416C8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E31EEC-6E23-489F-9536-51716F52D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48BB3A-8174-4AC0-83D7-4D3FD6693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020B1C-B0E1-40DB-8A69-C67F4D96F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4AD2FA-445B-4EB8-9B3A-19A20CA30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949E6-D0E8-4050-B7B0-5311DEE2F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0A45D-EDEE-42EE-AE29-F3E250133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E49B4-CE07-40DB-886C-AC0E22C02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F6D40-6195-4608-BCA2-9092E25CB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61056-06C7-4066-8761-E84D77470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7f4430">
                  <a:alpha val="45098"/>
                </a:srgbClr>
              </a:gs>
              <a:gs pos="100000">
                <a:srgbClr val="b1766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8a6156">
                  <a:alpha val="45098"/>
                </a:srgbClr>
              </a:gs>
              <a:gs pos="100000">
                <a:srgbClr val="a04f34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e3b30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0a2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a5644e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a382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a382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a382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9DB6C-9BC2-447A-BA36-3FCC6D66CB99}" type="slidenum">
              <a:rPr b="0" lang="ru-RU" sz="1200" spc="-1" strike="noStrike">
                <a:solidFill>
                  <a:srgbClr val="4a382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7f4430">
                  <a:alpha val="45098"/>
                </a:srgbClr>
              </a:gs>
              <a:gs pos="100000">
                <a:srgbClr val="b1766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8a6156">
                  <a:alpha val="45098"/>
                </a:srgbClr>
              </a:gs>
              <a:gs pos="100000">
                <a:srgbClr val="a04f34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beec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fbeec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0a2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a5644e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0e3c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0e3c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0e3c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24CC6-762A-4A4A-959B-C426FEB27036}" type="slidenum">
              <a:rPr b="0" lang="ru-RU" sz="1200" spc="-1" strike="noStrike">
                <a:solidFill>
                  <a:srgbClr val="f0e3c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7f4430">
                  <a:alpha val="45098"/>
                </a:srgbClr>
              </a:gs>
              <a:gs pos="100000">
                <a:srgbClr val="b1766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8a6156">
                  <a:alpha val="45098"/>
                </a:srgbClr>
              </a:gs>
              <a:gs pos="100000">
                <a:srgbClr val="a04f34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beec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fbeec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0a2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a5644e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0e3c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0e3c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0e3c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162E4-1940-4453-847F-7EB0DE239CBB}" type="slidenum">
              <a:rPr b="0" lang="ru-RU" sz="1200" spc="-1" strike="noStrike">
                <a:solidFill>
                  <a:srgbClr val="f0e3c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7f4430">
                  <a:alpha val="45098"/>
                </a:srgbClr>
              </a:gs>
              <a:gs pos="100000">
                <a:srgbClr val="b17666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8a6156">
                  <a:alpha val="45098"/>
                </a:srgbClr>
              </a:gs>
              <a:gs pos="100000">
                <a:srgbClr val="a04f34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4e3b30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f0a2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a5644e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a382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a382d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a382d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1F172-FDFF-4589-A070-4EAA52CE7B53}" type="slidenum">
              <a:rPr b="0" lang="ru-RU" sz="1200" spc="-1" strike="noStrike">
                <a:solidFill>
                  <a:srgbClr val="4a382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1"/>
          <a:stretch/>
        </p:blipFill>
        <p:spPr>
          <a:xfrm>
            <a:off x="152280" y="1352520"/>
            <a:ext cx="9229680" cy="342756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499680" y="149976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Прямоугольник 1"/>
          <p:cNvSpPr/>
          <p:nvPr/>
        </p:nvSpPr>
        <p:spPr>
          <a:xfrm>
            <a:off x="395280" y="1143000"/>
            <a:ext cx="8353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то зарядкой занимается,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т силы набирается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1" name="Picture 14" descr="http://s2.rimg.info/bb95166f23afa9f3680584c6f1ec578b.gif"/>
          <p:cNvPicPr/>
          <p:nvPr/>
        </p:nvPicPr>
        <p:blipFill>
          <a:blip r:embed="rId1"/>
          <a:stretch/>
        </p:blipFill>
        <p:spPr>
          <a:xfrm>
            <a:off x="1643040" y="2786040"/>
            <a:ext cx="5767560" cy="33577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Прямоугольник 1"/>
          <p:cNvSpPr/>
          <p:nvPr/>
        </p:nvSpPr>
        <p:spPr>
          <a:xfrm>
            <a:off x="522360" y="1643040"/>
            <a:ext cx="8280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6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3" name="Picture 3" descr="D:\4.gif"/>
          <p:cNvPicPr/>
          <p:nvPr/>
        </p:nvPicPr>
        <p:blipFill>
          <a:blip r:embed="rId1"/>
          <a:stretch/>
        </p:blipFill>
        <p:spPr>
          <a:xfrm>
            <a:off x="2571840" y="2786040"/>
            <a:ext cx="3682800" cy="3602160"/>
          </a:xfrm>
          <a:prstGeom prst="rect">
            <a:avLst/>
          </a:prstGeom>
          <a:ln w="0">
            <a:noFill/>
          </a:ln>
        </p:spPr>
      </p:pic>
    </p:spTree>
  </p:cSld>
  <p:transition>
    <p:split dir="out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3357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тренняя гимнастика, или как её ещё называют, зарядка, полезна всем: и маленьким, и большим.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4e3b30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99680" y="2357280"/>
            <a:ext cx="8286840" cy="37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99" name="Picture 2" descr="http://s005.radikal.ru/i211/1010/ea/b4286128a9fc.jpg"/>
          <p:cNvPicPr/>
          <p:nvPr/>
        </p:nvPicPr>
        <p:blipFill>
          <a:blip r:embed="rId1"/>
          <a:srcRect l="266" t="0" r="266" b="0"/>
          <a:stretch/>
        </p:blipFill>
        <p:spPr>
          <a:xfrm>
            <a:off x="1714680" y="2286000"/>
            <a:ext cx="5500440" cy="40006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extBox 1"/>
          <p:cNvSpPr/>
          <p:nvPr/>
        </p:nvSpPr>
        <p:spPr>
          <a:xfrm>
            <a:off x="414360" y="714240"/>
            <a:ext cx="8281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могает быстро перейти от сна к бодрствованию;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цо приобретает свежесть, 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организм бодрость;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1" name="Picture 6" descr="J0344946"/>
          <p:cNvPicPr/>
          <p:nvPr/>
        </p:nvPicPr>
        <p:blipFill>
          <a:blip r:embed="rId1"/>
          <a:stretch/>
        </p:blipFill>
        <p:spPr>
          <a:xfrm>
            <a:off x="5500800" y="3000240"/>
            <a:ext cx="2867040" cy="385776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4" descr="2"/>
          <p:cNvPicPr/>
          <p:nvPr/>
        </p:nvPicPr>
        <p:blipFill>
          <a:blip r:embed="rId2"/>
          <a:stretch/>
        </p:blipFill>
        <p:spPr>
          <a:xfrm>
            <a:off x="285840" y="2409840"/>
            <a:ext cx="2182680" cy="44481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3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3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3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3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Box 1"/>
          <p:cNvSpPr/>
          <p:nvPr/>
        </p:nvSpPr>
        <p:spPr>
          <a:xfrm>
            <a:off x="414360" y="714240"/>
            <a:ext cx="828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м полезна утренняя гимнастика?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4" name="Picture 9" descr="рпо"/>
          <p:cNvPicPr/>
          <p:nvPr/>
        </p:nvPicPr>
        <p:blipFill>
          <a:blip r:embed="rId1"/>
          <a:stretch/>
        </p:blipFill>
        <p:spPr>
          <a:xfrm>
            <a:off x="6480000" y="3573360"/>
            <a:ext cx="2530800" cy="3024360"/>
          </a:xfrm>
          <a:prstGeom prst="rect">
            <a:avLst/>
          </a:prstGeom>
          <a:ln w="0">
            <a:noFill/>
          </a:ln>
        </p:spPr>
      </p:pic>
      <p:pic>
        <p:nvPicPr>
          <p:cNvPr id="205" name="Рисунок 5" descr="image008.gif"/>
          <p:cNvPicPr/>
          <p:nvPr/>
        </p:nvPicPr>
        <p:blipFill>
          <a:blip r:embed="rId2"/>
          <a:stretch/>
        </p:blipFill>
        <p:spPr>
          <a:xfrm>
            <a:off x="3929040" y="2286000"/>
            <a:ext cx="2857680" cy="2682720"/>
          </a:xfrm>
          <a:prstGeom prst="rect">
            <a:avLst/>
          </a:prstGeom>
          <a:ln w="0">
            <a:noFill/>
          </a:ln>
        </p:spPr>
      </p:pic>
      <p:pic>
        <p:nvPicPr>
          <p:cNvPr id="206" name="Рисунок 6" descr="image006.gif"/>
          <p:cNvPicPr/>
          <p:nvPr/>
        </p:nvPicPr>
        <p:blipFill>
          <a:blip r:embed="rId3"/>
          <a:stretch/>
        </p:blipFill>
        <p:spPr>
          <a:xfrm>
            <a:off x="285840" y="2500200"/>
            <a:ext cx="3286080" cy="36687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3" presetSubtype="5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6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8" presetSubtype="16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Прямоугольник 1"/>
          <p:cNvSpPr/>
          <p:nvPr/>
        </p:nvSpPr>
        <p:spPr>
          <a:xfrm>
            <a:off x="285840" y="857160"/>
            <a:ext cx="86072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репляет здоровье;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ивизирует различные системы организма;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ленькая тренировка (развивается сила, ловкость, гибкость).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8" name="Picture 5" descr=""/>
          <p:cNvPicPr/>
          <p:nvPr/>
        </p:nvPicPr>
        <p:blipFill>
          <a:blip r:embed="rId1"/>
          <a:stretch/>
        </p:blipFill>
        <p:spPr>
          <a:xfrm>
            <a:off x="5786280" y="3500280"/>
            <a:ext cx="2830680" cy="2953080"/>
          </a:xfrm>
          <a:prstGeom prst="rect">
            <a:avLst/>
          </a:prstGeom>
          <a:ln w="76320">
            <a:solidFill>
              <a:srgbClr val="cc3300"/>
            </a:solidFill>
            <a:miter/>
          </a:ln>
        </p:spPr>
      </p:pic>
      <p:pic>
        <p:nvPicPr>
          <p:cNvPr id="209" name="Picture 4" descr="https://encrypted-tbn0.gstatic.com/images?q=tbn:ANd9GcSffC1qXh8Cb9W_zXcmSJ8yzh2nW9u2Wvt_WXi-Lhz-ba0tdLmU"/>
          <p:cNvPicPr/>
          <p:nvPr/>
        </p:nvPicPr>
        <p:blipFill>
          <a:blip r:embed="rId2"/>
          <a:srcRect l="0" t="2140" r="0" b="2140"/>
          <a:stretch/>
        </p:blipFill>
        <p:spPr>
          <a:xfrm>
            <a:off x="714240" y="3857760"/>
            <a:ext cx="3714840" cy="270180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Прямоугольник 1"/>
          <p:cNvSpPr/>
          <p:nvPr/>
        </p:nvSpPr>
        <p:spPr>
          <a:xfrm>
            <a:off x="285840" y="857160"/>
            <a:ext cx="86072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проведения утренней гимнастики необходим комплекс физических  упражнений (8-10 упражнений)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1" name="Picture 2" descr=""/>
          <p:cNvPicPr/>
          <p:nvPr/>
        </p:nvPicPr>
        <p:blipFill>
          <a:blip r:embed="rId1"/>
          <a:stretch/>
        </p:blipFill>
        <p:spPr>
          <a:xfrm>
            <a:off x="746280" y="3643200"/>
            <a:ext cx="1846080" cy="278604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3" descr=""/>
          <p:cNvPicPr/>
          <p:nvPr/>
        </p:nvPicPr>
        <p:blipFill>
          <a:blip r:embed="rId2"/>
          <a:stretch/>
        </p:blipFill>
        <p:spPr>
          <a:xfrm>
            <a:off x="3000240" y="3240000"/>
            <a:ext cx="6039000" cy="337680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000"/>
                            </p:stCondLst>
                            <p:childTnLst>
                              <p:par>
                                <p:cTn id="4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Прямоугольник 1"/>
          <p:cNvSpPr/>
          <p:nvPr/>
        </p:nvSpPr>
        <p:spPr>
          <a:xfrm>
            <a:off x="395280" y="785880"/>
            <a:ext cx="8353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емя выполнения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тренней гимнастики 10-15 минут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4" name="Прямоугольник 3"/>
          <p:cNvSpPr/>
          <p:nvPr/>
        </p:nvSpPr>
        <p:spPr>
          <a:xfrm>
            <a:off x="230040" y="1954080"/>
            <a:ext cx="853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5" name="Picture 2" descr="D:\Интерет\Ира\img_270ba7a71f28af5178d49a7628153a5c.jpg"/>
          <p:cNvPicPr/>
          <p:nvPr/>
        </p:nvPicPr>
        <p:blipFill>
          <a:blip r:embed="rId1"/>
          <a:stretch/>
        </p:blipFill>
        <p:spPr>
          <a:xfrm>
            <a:off x="1779480" y="2500200"/>
            <a:ext cx="5678640" cy="400068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Прямоугольник 1"/>
          <p:cNvSpPr/>
          <p:nvPr/>
        </p:nvSpPr>
        <p:spPr>
          <a:xfrm>
            <a:off x="863640" y="642960"/>
            <a:ext cx="8280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лать утреннюю гимнастику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до в проветренной комнате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ли на открытом воздухе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7" name="Picture 2" descr="C:\Documents and Settings\Владелец\Рабочий стол\4.jpg"/>
          <p:cNvPicPr/>
          <p:nvPr/>
        </p:nvPicPr>
        <p:blipFill>
          <a:blip r:embed="rId1"/>
          <a:stretch/>
        </p:blipFill>
        <p:spPr>
          <a:xfrm>
            <a:off x="1944720" y="2646360"/>
            <a:ext cx="5261040" cy="3925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Прямоугольник 2"/>
          <p:cNvSpPr/>
          <p:nvPr/>
        </p:nvSpPr>
        <p:spPr>
          <a:xfrm>
            <a:off x="450720" y="0"/>
            <a:ext cx="8425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тем душ или обтирание.</a:t>
            </a:r>
            <a:endParaRPr b="0" lang="en-US" sz="4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9" name="Picture 6" descr=""/>
          <p:cNvPicPr/>
          <p:nvPr/>
        </p:nvPicPr>
        <p:blipFill>
          <a:blip r:embed="rId1"/>
          <a:stretch/>
        </p:blipFill>
        <p:spPr>
          <a:xfrm>
            <a:off x="3000240" y="1643040"/>
            <a:ext cx="3618000" cy="4629240"/>
          </a:xfrm>
          <a:prstGeom prst="rect">
            <a:avLst/>
          </a:prstGeom>
          <a:ln w="76320">
            <a:solidFill>
              <a:srgbClr val="cc3300"/>
            </a:solidFill>
            <a:miter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5T17:49:50Z</dcterms:created>
  <dc:creator>Анастасия</dc:creator>
  <dc:description/>
  <dc:language>en-US</dc:language>
  <cp:lastModifiedBy>User</cp:lastModifiedBy>
  <dcterms:modified xsi:type="dcterms:W3CDTF">2017-11-20T08:31:46Z</dcterms:modified>
  <cp:revision>32</cp:revision>
  <dc:subject/>
  <dc:title>УТРЕННЯЯ ГИМНАСТИКА</dc:title>
</cp:coreProperties>
</file>